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B0F1-554F-471F-9E36-A05752A1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79C6-57A7-4AF5-8F92-F00D5E022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gaeforbiofuels.com/genetic-engineering-brief-overview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C0AB-CA90-49C3-AEE5-6762655DF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nmentoring.blogspot.ca/2012/04/5-questions-to-ask-new-mente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so many people resistant to GM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8C1E-61FF-48BB-BA21-972B65F5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37A-76A3-4821-A7EB-CA3A3973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tario.ca/en/initiatives/progressreport2011/ONT05_03914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915A-3580-4ECC-B99E-E757D449A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ama.ama-assn.org/content/292/19/2325.sh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8BD9-A14D-4855-B5B2-AF35D44F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ook at the website for the complete list of conditions screen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wbornscreening.on.ca/bins/content_page.asp?cid=7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information: http://www.newbornscreening.on.ca/bins/content_page.asp?cid=6-18&amp;lang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65FD-CE2C-45D5-B31B-B0B7BA7A0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: http://www.cbc.ca/marketplace/episodes/2014-2015/dna-testing-gene-g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polopoly_fs/7.13920.1385418885!/image/23andMe.jpg_gen/derivatives/landscape_630/23andM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D224-BB3F-4411-BC85-F7AAA1BBD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FD1A-4C28-4B27-9270-FDF19017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CF1A-2CA0-4EF9-967E-BDD9322E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ncognitive.com/node/102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images…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CE8F-C27C-4E5E-AECB-ED3842F4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 (clockwise from top lef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nh-usa.org/genetically-engineered-foods-and-new-action-aler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almbeachorganics.org/wordpress/?p=6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yessentia.com/blog/blog/tag/gmo-foo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lickr.com/photos/frozen_photon/238319092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457-D6AA-444E-A658-49AF5823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ournal.livingfood.us/2009/08/02/roasted-heirloom-tomato-sou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8CA6-EE4D-4811-BF7D-D18828FE5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dyposted.com/10087/frankenfood-for-a-hungry-pla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0BB0-9200-41A8-9548-BAD9E14D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4082-3E5C-490F-B3D0-82CA19E3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B845-CDE9-4622-9929-C280FF18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rystalinks.com/transgenicplan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B87E-5CE8-49CA-A4D0-9B3880EB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a-pets.bravehost.com/Mice/mi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3 is tumour-suppressing gene in humans…knockout mice got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7CD-9CA4-4651-B666-B1265C21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0F0-F523-4019-8703-45CBD71F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650-E94F-49B7-AE4A-5C37CB7C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ABA-8D76-406D-A2E2-5A8E55AB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EA9-A6BA-4B71-A7B0-4D7353CB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F97-3822-473A-A540-491EA60D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007-7F55-4687-8CC6-31C67DAC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B52-2F47-49BB-A9DF-5B57E34C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F72-DF12-4A01-95A9-70BDF73F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3E6-FABE-495C-B795-B792F0E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2F0-7361-452A-AC05-3FBC94F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9DF-2A97-48ED-8045-3236A8B4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17AA-2633-438E-A265-1614414BE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bc.ca/marketplace/episodes/2014-2015/dna-testing-gene-genie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signing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etal Concer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breeding and/or competition with native plants o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contain toxins that harm consumers (e.g., GM safflo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?  pat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 &amp;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nt05_039341"/>
          <p:cNvPicPr/>
          <p:nvPr/>
        </p:nvPicPr>
        <p:blipFill>
          <a:blip r:embed="rId1"/>
          <a:stretch/>
        </p:blipFill>
        <p:spPr>
          <a:xfrm>
            <a:off x="1631880" y="1981080"/>
            <a:ext cx="587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graphic-1"/>
          <p:cNvPicPr/>
          <p:nvPr/>
        </p:nvPicPr>
        <p:blipFill>
          <a:blip r:embed="rId1"/>
          <a:stretch/>
        </p:blipFill>
        <p:spPr>
          <a:xfrm>
            <a:off x="1862280" y="609480"/>
            <a:ext cx="541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ario 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Ontario_logo"/>
          <p:cNvPicPr/>
          <p:nvPr/>
        </p:nvPicPr>
        <p:blipFill>
          <a:blip r:embed="rId1"/>
          <a:stretch/>
        </p:blipFill>
        <p:spPr>
          <a:xfrm>
            <a:off x="2448000" y="4648320"/>
            <a:ext cx="4246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ditar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identification of some hereditary disorders can help to allow for treatment to minimize symptoms throug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miss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excellent episode of CBC Marketplace about DNA testing k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6" descr="23andMe.jpg"/>
          <p:cNvPicPr/>
          <p:nvPr/>
        </p:nvPicPr>
        <p:blipFill>
          <a:blip r:embed="rId2"/>
          <a:srcRect l="0" t="-41687" r="0" b="-4168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s the possibility of correcting the genetic de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m-line gene thera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genomes of germ cells (game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ic gene thera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somatic cell gen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gmo-seeds-of-deception-cancer-heart-disease-unhealthy"/>
          <p:cNvPicPr/>
          <p:nvPr/>
        </p:nvPicPr>
        <p:blipFill>
          <a:blip r:embed="rId1"/>
          <a:stretch/>
        </p:blipFill>
        <p:spPr>
          <a:xfrm>
            <a:off x="1131840" y="1981080"/>
            <a:ext cx="687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2009_11_gmocorn"/>
          <p:cNvPicPr/>
          <p:nvPr/>
        </p:nvPicPr>
        <p:blipFill>
          <a:blip r:embed="rId1"/>
          <a:stretch/>
        </p:blipFill>
        <p:spPr>
          <a:xfrm>
            <a:off x="1181160" y="6858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2383190926_7e7a06ce5a_z"/>
          <p:cNvPicPr/>
          <p:nvPr/>
        </p:nvPicPr>
        <p:blipFill>
          <a:blip r:embed="rId2"/>
          <a:stretch/>
        </p:blipFill>
        <p:spPr>
          <a:xfrm>
            <a:off x="844560" y="3581280"/>
            <a:ext cx="3490920" cy="281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gm_food"/>
          <p:cNvPicPr/>
          <p:nvPr/>
        </p:nvPicPr>
        <p:blipFill>
          <a:blip r:embed="rId3"/>
          <a:stretch/>
        </p:blipFill>
        <p:spPr>
          <a:xfrm>
            <a:off x="4722840" y="762120"/>
            <a:ext cx="365904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genetically_modified_food"/>
          <p:cNvPicPr/>
          <p:nvPr/>
        </p:nvPicPr>
        <p:blipFill>
          <a:blip r:embed="rId4"/>
          <a:stretch/>
        </p:blipFill>
        <p:spPr>
          <a:xfrm>
            <a:off x="4981680" y="3657600"/>
            <a:ext cx="321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rloom Var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eirloom-tomatoes"/>
          <p:cNvPicPr/>
          <p:nvPr/>
        </p:nvPicPr>
        <p:blipFill>
          <a:blip r:embed="rId1"/>
          <a:stretch/>
        </p:blipFill>
        <p:spPr>
          <a:xfrm>
            <a:off x="2344680" y="1981080"/>
            <a:ext cx="445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h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harmcorn"/>
          <p:cNvPicPr/>
          <p:nvPr/>
        </p:nvPicPr>
        <p:blipFill>
          <a:blip r:embed="rId1"/>
          <a:stretch/>
        </p:blipFill>
        <p:spPr>
          <a:xfrm>
            <a:off x="1484280" y="1981080"/>
            <a:ext cx="617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h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engineered host organisms are used to make pharmaceuticals or other medically-important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be isolated from milk (e.g., cows, goats) or seeds (e.g., safflowers) and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genic (GM)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nimals and pl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heaper to maintain than transgenic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 ability to produce larger more complex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genic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 canola and other field crops are usually engineered to resist herbicides, reducing the farmers’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potential to provide food in developing countries, but cost of patented seeds can be prohib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ckout M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ed to have at least one gene turn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studying effects of specific genes on human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xing mouse"/>
          <p:cNvPicPr/>
          <p:nvPr/>
        </p:nvPicPr>
        <p:blipFill>
          <a:blip r:embed="rId1"/>
          <a:stretch/>
        </p:blipFill>
        <p:spPr>
          <a:xfrm>
            <a:off x="5189400" y="1981080"/>
            <a:ext cx="272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0:54Z</dcterms:created>
  <dc:creator>rubina khan</dc:creator>
  <dc:description/>
  <dc:language>en-US</dc:language>
  <cp:lastModifiedBy>rubina khan</cp:lastModifiedBy>
  <dcterms:modified xsi:type="dcterms:W3CDTF">2015-11-27T18:25:49Z</dcterms:modified>
  <cp:revision>66</cp:revision>
  <dc:subject/>
  <dc:title>Genetic Engineering Biotechnology &amp; Helath</dc:title>
</cp:coreProperties>
</file>